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4.jpeg" ContentType="image/jpeg"/>
  <Override PartName="/ppt/media/image4.wmf" ContentType="image/x-wmf"/>
  <Override PartName="/ppt/media/image21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71E-5075-4F20-AA41-A33AC43F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6F4-33BA-44A0-A565-6EE33A7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BB0-609F-4246-A424-E2EB50FB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D40-4BDB-4718-9942-CC656A4B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730-1F0B-4587-9698-B4EBC5A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3EA-E398-463B-B304-90ED384E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895-8B32-4CAC-B768-6FD4CCB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F9F-EC46-4FCB-87E2-C772B3F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D99-25B9-4F02-BCB5-CC3F9CB9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8FD-B42A-4622-829F-416DC02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3DE-BB28-473F-9FAB-33AE277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8A9-471E-42C1-9795-4E6A6BC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CE5D-EA73-4AAA-9177-E7192E27E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ING AT PLANTS AND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a01441_" descr=""/>
          <p:cNvPicPr/>
          <p:nvPr/>
        </p:nvPicPr>
        <p:blipFill>
          <a:blip r:embed="rId1"/>
          <a:stretch/>
        </p:blipFill>
        <p:spPr>
          <a:xfrm>
            <a:off x="0" y="3048120"/>
            <a:ext cx="2332080" cy="3133440"/>
          </a:xfrm>
          <a:prstGeom prst="rect">
            <a:avLst/>
          </a:prstGeom>
          <a:ln w="0">
            <a:noFill/>
          </a:ln>
        </p:spPr>
      </p:pic>
      <p:pic>
        <p:nvPicPr>
          <p:cNvPr id="44" name="an01283_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an01339_" descr=""/>
          <p:cNvPicPr/>
          <p:nvPr/>
        </p:nvPicPr>
        <p:blipFill>
          <a:blip r:embed="rId3"/>
          <a:stretch/>
        </p:blipFill>
        <p:spPr>
          <a:xfrm>
            <a:off x="6400800" y="3124080"/>
            <a:ext cx="2463840" cy="3468960"/>
          </a:xfrm>
          <a:prstGeom prst="rect">
            <a:avLst/>
          </a:prstGeom>
          <a:ln w="0">
            <a:noFill/>
          </a:ln>
        </p:spPr>
      </p:pic>
      <p:pic>
        <p:nvPicPr>
          <p:cNvPr id="46" name="bd06981_" descr=""/>
          <p:cNvPicPr/>
          <p:nvPr/>
        </p:nvPicPr>
        <p:blipFill>
          <a:blip r:embed="rId4"/>
          <a:stretch/>
        </p:blipFill>
        <p:spPr>
          <a:xfrm>
            <a:off x="685800" y="304920"/>
            <a:ext cx="1817640" cy="174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48640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31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Cycle of a 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ulary P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55760" y="2556000"/>
            <a:ext cx="31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cycle,A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yo,A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dity,A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ering plant,A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ifer,A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a Plant’s Life Beg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na00820_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523880" cy="1765440"/>
          </a:xfrm>
          <a:prstGeom prst="rect">
            <a:avLst/>
          </a:prstGeom>
          <a:ln w="0">
            <a:noFill/>
          </a:ln>
        </p:spPr>
      </p:pic>
      <p:pic>
        <p:nvPicPr>
          <p:cNvPr id="344" name="na01833_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827360" cy="1585800"/>
          </a:xfrm>
          <a:prstGeom prst="rect">
            <a:avLst/>
          </a:prstGeom>
          <a:ln w="0">
            <a:noFill/>
          </a:ln>
        </p:spPr>
      </p:pic>
      <p:pic>
        <p:nvPicPr>
          <p:cNvPr id="345" name="ph01207j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1447560" cy="1805040"/>
          </a:xfrm>
          <a:prstGeom prst="rect">
            <a:avLst/>
          </a:prstGeom>
          <a:ln w="0">
            <a:noFill/>
          </a:ln>
        </p:spPr>
      </p:pic>
      <p:pic>
        <p:nvPicPr>
          <p:cNvPr id="346" name="ph02182j" descr=""/>
          <p:cNvPicPr/>
          <p:nvPr/>
        </p:nvPicPr>
        <p:blipFill>
          <a:blip r:embed="rId4"/>
          <a:stretch/>
        </p:blipFill>
        <p:spPr>
          <a:xfrm>
            <a:off x="6934320" y="35053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47" name="ph02181j" descr=""/>
          <p:cNvPicPr/>
          <p:nvPr/>
        </p:nvPicPr>
        <p:blipFill>
          <a:blip r:embed="rId5"/>
          <a:stretch/>
        </p:blipFill>
        <p:spPr>
          <a:xfrm>
            <a:off x="7620120" y="205740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348" name="ph02180j" descr=""/>
          <p:cNvPicPr/>
          <p:nvPr/>
        </p:nvPicPr>
        <p:blipFill>
          <a:blip r:embed="rId6"/>
          <a:stretch/>
        </p:blipFill>
        <p:spPr>
          <a:xfrm>
            <a:off x="1066680" y="4952880"/>
            <a:ext cx="685800" cy="749520"/>
          </a:xfrm>
          <a:prstGeom prst="rect">
            <a:avLst/>
          </a:prstGeom>
          <a:ln w="0">
            <a:noFill/>
          </a:ln>
        </p:spPr>
      </p:pic>
      <p:pic>
        <p:nvPicPr>
          <p:cNvPr id="349" name="ph02830j" descr=""/>
          <p:cNvPicPr/>
          <p:nvPr/>
        </p:nvPicPr>
        <p:blipFill>
          <a:blip r:embed="rId7"/>
          <a:stretch/>
        </p:blipFill>
        <p:spPr>
          <a:xfrm>
            <a:off x="47242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0" name="ph02837j" descr=""/>
          <p:cNvPicPr/>
          <p:nvPr/>
        </p:nvPicPr>
        <p:blipFill>
          <a:blip r:embed="rId8"/>
          <a:stretch/>
        </p:blipFill>
        <p:spPr>
          <a:xfrm>
            <a:off x="7696080" y="5410080"/>
            <a:ext cx="1143000" cy="1181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57400" y="1752480"/>
            <a:ext cx="526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 begins a plant’s life cycle. A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s life, grows, develops, reprodu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8160" y="2784600"/>
            <a:ext cx="694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cold day, you might see icicles that have gr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roof of a building.  Does this mean icicl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?  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 P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,A6                  leaf,A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oduction,A7            energy,A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,A8            oxygen,A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,A8                    life cycle,A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,A10                         embryo,A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,A16                   heredity,A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,A17                         flowering plant,A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m,A17                        conifer,A28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ATURES OF 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an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0082_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107784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na01769_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1646280" cy="1544760"/>
          </a:xfrm>
          <a:prstGeom prst="rect">
            <a:avLst/>
          </a:prstGeom>
          <a:ln w="0">
            <a:noFill/>
          </a:ln>
        </p:spPr>
      </p:pic>
      <p:pic>
        <p:nvPicPr>
          <p:cNvPr id="56" name="na00622_" descr=""/>
          <p:cNvPicPr/>
          <p:nvPr/>
        </p:nvPicPr>
        <p:blipFill>
          <a:blip r:embed="rId3"/>
          <a:stretch/>
        </p:blipFill>
        <p:spPr>
          <a:xfrm>
            <a:off x="609480" y="5195880"/>
            <a:ext cx="123984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na00452_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642960" cy="1135080"/>
          </a:xfrm>
          <a:prstGeom prst="rect">
            <a:avLst/>
          </a:prstGeom>
          <a:ln w="0">
            <a:noFill/>
          </a:ln>
        </p:spPr>
      </p:pic>
      <p:pic>
        <p:nvPicPr>
          <p:cNvPr id="58" name="bd07353_" descr=""/>
          <p:cNvPicPr/>
          <p:nvPr/>
        </p:nvPicPr>
        <p:blipFill>
          <a:blip r:embed="rId5"/>
          <a:stretch/>
        </p:blipFill>
        <p:spPr>
          <a:xfrm>
            <a:off x="5562720" y="2743200"/>
            <a:ext cx="184284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na01366_" descr=""/>
          <p:cNvPicPr/>
          <p:nvPr/>
        </p:nvPicPr>
        <p:blipFill>
          <a:blip r:embed="rId6"/>
          <a:stretch/>
        </p:blipFill>
        <p:spPr>
          <a:xfrm>
            <a:off x="6324480" y="4648320"/>
            <a:ext cx="1946520" cy="1501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914040" y="3200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419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23880" y="51051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Smaller Parts of 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47040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20088_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733920"/>
            <a:ext cx="2133360" cy="2654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0560" y="480060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3886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3809880"/>
            <a:ext cx="2013120" cy="19227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s of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Mineral,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,A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m,A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f,A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,A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,A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755e7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a01441_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64644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86400" y="6095880"/>
            <a:ext cx="231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/////////////////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83080" y="5956200"/>
            <a:ext cx="3822840" cy="927360"/>
          </a:xfrm>
          <a:custGeom>
            <a:avLst/>
            <a:gdLst/>
            <a:ahLst/>
            <a:rect l="l" t="t" r="r" b="b"/>
            <a:pathLst>
              <a:path w="2408" h="584">
                <a:moveTo>
                  <a:pt x="968" y="280"/>
                </a:moveTo>
                <a:cubicBezTo>
                  <a:pt x="1412" y="216"/>
                  <a:pt x="1856" y="152"/>
                  <a:pt x="1832" y="136"/>
                </a:cubicBezTo>
                <a:cubicBezTo>
                  <a:pt x="1808" y="120"/>
                  <a:pt x="920" y="200"/>
                  <a:pt x="824" y="184"/>
                </a:cubicBezTo>
                <a:cubicBezTo>
                  <a:pt x="728" y="168"/>
                  <a:pt x="1080" y="16"/>
                  <a:pt x="1256" y="40"/>
                </a:cubicBezTo>
                <a:cubicBezTo>
                  <a:pt x="1432" y="64"/>
                  <a:pt x="1968" y="280"/>
                  <a:pt x="1880" y="328"/>
                </a:cubicBezTo>
                <a:cubicBezTo>
                  <a:pt x="1792" y="376"/>
                  <a:pt x="912" y="376"/>
                  <a:pt x="728" y="328"/>
                </a:cubicBezTo>
                <a:cubicBezTo>
                  <a:pt x="544" y="280"/>
                  <a:pt x="512" y="8"/>
                  <a:pt x="776" y="40"/>
                </a:cubicBezTo>
                <a:cubicBezTo>
                  <a:pt x="1040" y="72"/>
                  <a:pt x="2408" y="456"/>
                  <a:pt x="2312" y="520"/>
                </a:cubicBezTo>
                <a:cubicBezTo>
                  <a:pt x="2216" y="584"/>
                  <a:pt x="400" y="504"/>
                  <a:pt x="200" y="424"/>
                </a:cubicBezTo>
                <a:cubicBezTo>
                  <a:pt x="0" y="344"/>
                  <a:pt x="952" y="80"/>
                  <a:pt x="1112" y="40"/>
                </a:cubicBezTo>
                <a:cubicBezTo>
                  <a:pt x="1272" y="0"/>
                  <a:pt x="1216" y="92"/>
                  <a:pt x="1160" y="1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1280" y="6051600"/>
            <a:ext cx="2676600" cy="863640"/>
          </a:xfrm>
          <a:custGeom>
            <a:avLst/>
            <a:gdLst/>
            <a:ahLst/>
            <a:rect l="l" t="t" r="r" b="b"/>
            <a:pathLst>
              <a:path w="1686" h="544">
                <a:moveTo>
                  <a:pt x="335" y="147"/>
                </a:moveTo>
                <a:cubicBezTo>
                  <a:pt x="356" y="133"/>
                  <a:pt x="377" y="119"/>
                  <a:pt x="398" y="105"/>
                </a:cubicBezTo>
                <a:cubicBezTo>
                  <a:pt x="408" y="98"/>
                  <a:pt x="429" y="84"/>
                  <a:pt x="429" y="84"/>
                </a:cubicBezTo>
                <a:cubicBezTo>
                  <a:pt x="447" y="135"/>
                  <a:pt x="422" y="199"/>
                  <a:pt x="408" y="251"/>
                </a:cubicBezTo>
                <a:cubicBezTo>
                  <a:pt x="423" y="336"/>
                  <a:pt x="410" y="313"/>
                  <a:pt x="482" y="335"/>
                </a:cubicBezTo>
                <a:cubicBezTo>
                  <a:pt x="517" y="332"/>
                  <a:pt x="555" y="341"/>
                  <a:pt x="586" y="325"/>
                </a:cubicBezTo>
                <a:cubicBezTo>
                  <a:pt x="609" y="314"/>
                  <a:pt x="628" y="262"/>
                  <a:pt x="628" y="262"/>
                </a:cubicBezTo>
                <a:cubicBezTo>
                  <a:pt x="639" y="272"/>
                  <a:pt x="653" y="280"/>
                  <a:pt x="660" y="293"/>
                </a:cubicBezTo>
                <a:cubicBezTo>
                  <a:pt x="712" y="386"/>
                  <a:pt x="645" y="333"/>
                  <a:pt x="712" y="377"/>
                </a:cubicBezTo>
                <a:cubicBezTo>
                  <a:pt x="767" y="359"/>
                  <a:pt x="733" y="373"/>
                  <a:pt x="806" y="325"/>
                </a:cubicBezTo>
                <a:cubicBezTo>
                  <a:pt x="817" y="318"/>
                  <a:pt x="838" y="304"/>
                  <a:pt x="838" y="304"/>
                </a:cubicBezTo>
                <a:cubicBezTo>
                  <a:pt x="862" y="399"/>
                  <a:pt x="850" y="361"/>
                  <a:pt x="869" y="419"/>
                </a:cubicBezTo>
                <a:cubicBezTo>
                  <a:pt x="883" y="416"/>
                  <a:pt x="898" y="415"/>
                  <a:pt x="911" y="409"/>
                </a:cubicBezTo>
                <a:cubicBezTo>
                  <a:pt x="922" y="404"/>
                  <a:pt x="930" y="388"/>
                  <a:pt x="942" y="388"/>
                </a:cubicBezTo>
                <a:cubicBezTo>
                  <a:pt x="960" y="388"/>
                  <a:pt x="995" y="433"/>
                  <a:pt x="1005" y="440"/>
                </a:cubicBezTo>
                <a:cubicBezTo>
                  <a:pt x="1024" y="452"/>
                  <a:pt x="1047" y="454"/>
                  <a:pt x="1068" y="461"/>
                </a:cubicBezTo>
                <a:cubicBezTo>
                  <a:pt x="1130" y="445"/>
                  <a:pt x="1142" y="408"/>
                  <a:pt x="1204" y="388"/>
                </a:cubicBezTo>
                <a:cubicBezTo>
                  <a:pt x="1249" y="417"/>
                  <a:pt x="1275" y="420"/>
                  <a:pt x="1330" y="429"/>
                </a:cubicBezTo>
                <a:cubicBezTo>
                  <a:pt x="1373" y="458"/>
                  <a:pt x="1418" y="465"/>
                  <a:pt x="1466" y="482"/>
                </a:cubicBezTo>
                <a:cubicBezTo>
                  <a:pt x="1686" y="445"/>
                  <a:pt x="1626" y="496"/>
                  <a:pt x="1686" y="377"/>
                </a:cubicBezTo>
                <a:cubicBezTo>
                  <a:pt x="1669" y="314"/>
                  <a:pt x="1680" y="349"/>
                  <a:pt x="1654" y="272"/>
                </a:cubicBezTo>
                <a:cubicBezTo>
                  <a:pt x="1637" y="222"/>
                  <a:pt x="1636" y="166"/>
                  <a:pt x="1623" y="115"/>
                </a:cubicBezTo>
                <a:cubicBezTo>
                  <a:pt x="1609" y="119"/>
                  <a:pt x="1593" y="134"/>
                  <a:pt x="1581" y="126"/>
                </a:cubicBezTo>
                <a:cubicBezTo>
                  <a:pt x="1560" y="113"/>
                  <a:pt x="1539" y="63"/>
                  <a:pt x="1539" y="63"/>
                </a:cubicBezTo>
                <a:cubicBezTo>
                  <a:pt x="1468" y="80"/>
                  <a:pt x="1489" y="81"/>
                  <a:pt x="1445" y="126"/>
                </a:cubicBezTo>
                <a:cubicBezTo>
                  <a:pt x="1426" y="145"/>
                  <a:pt x="1402" y="159"/>
                  <a:pt x="1382" y="178"/>
                </a:cubicBezTo>
                <a:cubicBezTo>
                  <a:pt x="1379" y="190"/>
                  <a:pt x="1360" y="274"/>
                  <a:pt x="1351" y="283"/>
                </a:cubicBezTo>
                <a:cubicBezTo>
                  <a:pt x="1343" y="291"/>
                  <a:pt x="1329" y="289"/>
                  <a:pt x="1319" y="293"/>
                </a:cubicBezTo>
                <a:cubicBezTo>
                  <a:pt x="1305" y="299"/>
                  <a:pt x="1291" y="307"/>
                  <a:pt x="1277" y="314"/>
                </a:cubicBezTo>
                <a:cubicBezTo>
                  <a:pt x="1254" y="348"/>
                  <a:pt x="1227" y="375"/>
                  <a:pt x="1204" y="409"/>
                </a:cubicBezTo>
                <a:cubicBezTo>
                  <a:pt x="1143" y="387"/>
                  <a:pt x="1183" y="366"/>
                  <a:pt x="1120" y="346"/>
                </a:cubicBezTo>
                <a:cubicBezTo>
                  <a:pt x="1110" y="353"/>
                  <a:pt x="1101" y="369"/>
                  <a:pt x="1089" y="367"/>
                </a:cubicBezTo>
                <a:cubicBezTo>
                  <a:pt x="1078" y="365"/>
                  <a:pt x="1029" y="296"/>
                  <a:pt x="1026" y="293"/>
                </a:cubicBezTo>
                <a:cubicBezTo>
                  <a:pt x="1006" y="271"/>
                  <a:pt x="963" y="230"/>
                  <a:pt x="963" y="230"/>
                </a:cubicBezTo>
                <a:cubicBezTo>
                  <a:pt x="953" y="234"/>
                  <a:pt x="943" y="243"/>
                  <a:pt x="932" y="241"/>
                </a:cubicBezTo>
                <a:cubicBezTo>
                  <a:pt x="896" y="235"/>
                  <a:pt x="886" y="183"/>
                  <a:pt x="869" y="157"/>
                </a:cubicBezTo>
                <a:cubicBezTo>
                  <a:pt x="854" y="111"/>
                  <a:pt x="822" y="77"/>
                  <a:pt x="806" y="31"/>
                </a:cubicBezTo>
                <a:cubicBezTo>
                  <a:pt x="759" y="48"/>
                  <a:pt x="740" y="41"/>
                  <a:pt x="712" y="0"/>
                </a:cubicBezTo>
                <a:cubicBezTo>
                  <a:pt x="639" y="25"/>
                  <a:pt x="619" y="124"/>
                  <a:pt x="565" y="178"/>
                </a:cubicBezTo>
                <a:cubicBezTo>
                  <a:pt x="541" y="202"/>
                  <a:pt x="524" y="202"/>
                  <a:pt x="492" y="210"/>
                </a:cubicBezTo>
                <a:cubicBezTo>
                  <a:pt x="478" y="254"/>
                  <a:pt x="431" y="289"/>
                  <a:pt x="387" y="304"/>
                </a:cubicBezTo>
                <a:cubicBezTo>
                  <a:pt x="343" y="348"/>
                  <a:pt x="309" y="359"/>
                  <a:pt x="251" y="377"/>
                </a:cubicBezTo>
                <a:cubicBezTo>
                  <a:pt x="198" y="364"/>
                  <a:pt x="209" y="361"/>
                  <a:pt x="146" y="377"/>
                </a:cubicBezTo>
                <a:cubicBezTo>
                  <a:pt x="125" y="382"/>
                  <a:pt x="84" y="398"/>
                  <a:pt x="84" y="398"/>
                </a:cubicBezTo>
                <a:cubicBezTo>
                  <a:pt x="63" y="395"/>
                  <a:pt x="39" y="398"/>
                  <a:pt x="21" y="388"/>
                </a:cubicBezTo>
                <a:cubicBezTo>
                  <a:pt x="0" y="376"/>
                  <a:pt x="13" y="323"/>
                  <a:pt x="21" y="314"/>
                </a:cubicBezTo>
                <a:cubicBezTo>
                  <a:pt x="28" y="306"/>
                  <a:pt x="41" y="306"/>
                  <a:pt x="52" y="304"/>
                </a:cubicBezTo>
                <a:cubicBezTo>
                  <a:pt x="80" y="299"/>
                  <a:pt x="108" y="297"/>
                  <a:pt x="136" y="293"/>
                </a:cubicBezTo>
                <a:cubicBezTo>
                  <a:pt x="157" y="272"/>
                  <a:pt x="192" y="259"/>
                  <a:pt x="199" y="230"/>
                </a:cubicBezTo>
                <a:cubicBezTo>
                  <a:pt x="212" y="177"/>
                  <a:pt x="197" y="197"/>
                  <a:pt x="241" y="168"/>
                </a:cubicBezTo>
                <a:cubicBezTo>
                  <a:pt x="314" y="217"/>
                  <a:pt x="282" y="224"/>
                  <a:pt x="335" y="189"/>
                </a:cubicBezTo>
                <a:cubicBezTo>
                  <a:pt x="364" y="145"/>
                  <a:pt x="366" y="129"/>
                  <a:pt x="419" y="147"/>
                </a:cubicBezTo>
                <a:cubicBezTo>
                  <a:pt x="495" y="131"/>
                  <a:pt x="452" y="142"/>
                  <a:pt x="534" y="115"/>
                </a:cubicBezTo>
                <a:cubicBezTo>
                  <a:pt x="544" y="112"/>
                  <a:pt x="565" y="105"/>
                  <a:pt x="565" y="105"/>
                </a:cubicBezTo>
                <a:cubicBezTo>
                  <a:pt x="600" y="113"/>
                  <a:pt x="607" y="123"/>
                  <a:pt x="639" y="105"/>
                </a:cubicBezTo>
                <a:cubicBezTo>
                  <a:pt x="661" y="93"/>
                  <a:pt x="701" y="63"/>
                  <a:pt x="701" y="63"/>
                </a:cubicBezTo>
                <a:cubicBezTo>
                  <a:pt x="712" y="70"/>
                  <a:pt x="720" y="82"/>
                  <a:pt x="733" y="84"/>
                </a:cubicBezTo>
                <a:cubicBezTo>
                  <a:pt x="742" y="85"/>
                  <a:pt x="814" y="56"/>
                  <a:pt x="827" y="52"/>
                </a:cubicBezTo>
                <a:cubicBezTo>
                  <a:pt x="901" y="101"/>
                  <a:pt x="876" y="73"/>
                  <a:pt x="911" y="126"/>
                </a:cubicBezTo>
                <a:cubicBezTo>
                  <a:pt x="920" y="343"/>
                  <a:pt x="857" y="373"/>
                  <a:pt x="1016" y="398"/>
                </a:cubicBezTo>
                <a:cubicBezTo>
                  <a:pt x="1019" y="409"/>
                  <a:pt x="1032" y="458"/>
                  <a:pt x="1047" y="461"/>
                </a:cubicBezTo>
                <a:cubicBezTo>
                  <a:pt x="1059" y="464"/>
                  <a:pt x="1068" y="447"/>
                  <a:pt x="1078" y="440"/>
                </a:cubicBezTo>
                <a:cubicBezTo>
                  <a:pt x="1081" y="435"/>
                  <a:pt x="1114" y="379"/>
                  <a:pt x="1131" y="388"/>
                </a:cubicBezTo>
                <a:cubicBezTo>
                  <a:pt x="1153" y="400"/>
                  <a:pt x="1173" y="450"/>
                  <a:pt x="1173" y="450"/>
                </a:cubicBezTo>
                <a:cubicBezTo>
                  <a:pt x="1190" y="447"/>
                  <a:pt x="1208" y="446"/>
                  <a:pt x="1225" y="440"/>
                </a:cubicBezTo>
                <a:cubicBezTo>
                  <a:pt x="1237" y="436"/>
                  <a:pt x="1244" y="419"/>
                  <a:pt x="1256" y="419"/>
                </a:cubicBezTo>
                <a:cubicBezTo>
                  <a:pt x="1269" y="419"/>
                  <a:pt x="1276" y="435"/>
                  <a:pt x="1288" y="440"/>
                </a:cubicBezTo>
                <a:cubicBezTo>
                  <a:pt x="1308" y="449"/>
                  <a:pt x="1351" y="461"/>
                  <a:pt x="1351" y="461"/>
                </a:cubicBezTo>
                <a:cubicBezTo>
                  <a:pt x="1399" y="533"/>
                  <a:pt x="1369" y="516"/>
                  <a:pt x="1424" y="534"/>
                </a:cubicBezTo>
                <a:cubicBezTo>
                  <a:pt x="1546" y="522"/>
                  <a:pt x="1551" y="544"/>
                  <a:pt x="1571" y="429"/>
                </a:cubicBezTo>
                <a:cubicBezTo>
                  <a:pt x="1557" y="365"/>
                  <a:pt x="1562" y="357"/>
                  <a:pt x="1497" y="377"/>
                </a:cubicBezTo>
                <a:cubicBezTo>
                  <a:pt x="1490" y="367"/>
                  <a:pt x="1488" y="351"/>
                  <a:pt x="1476" y="346"/>
                </a:cubicBezTo>
                <a:cubicBezTo>
                  <a:pt x="1466" y="342"/>
                  <a:pt x="1455" y="360"/>
                  <a:pt x="1445" y="356"/>
                </a:cubicBezTo>
                <a:cubicBezTo>
                  <a:pt x="1433" y="351"/>
                  <a:pt x="1431" y="335"/>
                  <a:pt x="1424" y="325"/>
                </a:cubicBezTo>
                <a:cubicBezTo>
                  <a:pt x="1400" y="249"/>
                  <a:pt x="1437" y="335"/>
                  <a:pt x="1372" y="283"/>
                </a:cubicBezTo>
                <a:cubicBezTo>
                  <a:pt x="1363" y="276"/>
                  <a:pt x="1367" y="261"/>
                  <a:pt x="1361" y="251"/>
                </a:cubicBezTo>
                <a:cubicBezTo>
                  <a:pt x="1352" y="236"/>
                  <a:pt x="1342" y="222"/>
                  <a:pt x="1330" y="210"/>
                </a:cubicBezTo>
                <a:cubicBezTo>
                  <a:pt x="1300" y="181"/>
                  <a:pt x="1300" y="195"/>
                  <a:pt x="1267" y="178"/>
                </a:cubicBezTo>
                <a:cubicBezTo>
                  <a:pt x="1219" y="153"/>
                  <a:pt x="1194" y="112"/>
                  <a:pt x="1141" y="94"/>
                </a:cubicBezTo>
                <a:cubicBezTo>
                  <a:pt x="1075" y="117"/>
                  <a:pt x="1051" y="69"/>
                  <a:pt x="995" y="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85880" y="6213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4800" y="4232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038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13760" y="3013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5909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es A Plant Need Leav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209680"/>
            <a:ext cx="19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46160"/>
            <a:ext cx="8143920" cy="4117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re the main food-making part of the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take in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re green because of chlorophy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traps the energy in sunlight for the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lso help the plant get the air it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uses carbon dioxide from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nt uses the Sun’s energy to combine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ater to mak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Plants use food to stay alive and give off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Plants Respond To Their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8052_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1447920" cy="1781280"/>
          </a:xfrm>
          <a:prstGeom prst="rect">
            <a:avLst/>
          </a:prstGeom>
          <a:ln w="0">
            <a:noFill/>
          </a:ln>
        </p:spPr>
      </p:pic>
      <p:pic>
        <p:nvPicPr>
          <p:cNvPr id="90" name="na00626_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40148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na00627_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440" y="190512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plants resp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y growing towar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5720" y="4537080"/>
            <a:ext cx="33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respond to co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when their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c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"/>
            <p:cNvSpPr/>
            <p:nvPr/>
          </p:nvSpPr>
          <p:spPr>
            <a:xfrm>
              <a:off x="8721720" y="627120"/>
              <a:ext cx="209520" cy="777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12200" y="782640"/>
              <a:ext cx="209520" cy="4665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99440" y="936720"/>
              <a:ext cx="21276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21720" y="2182680"/>
              <a:ext cx="209520" cy="779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12200" y="2338560"/>
              <a:ext cx="209520" cy="4680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99440" y="249408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21720" y="374328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12200" y="389880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99440" y="4054320"/>
              <a:ext cx="21276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21720" y="529740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12200" y="545292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99440" y="560880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31240" y="158760"/>
              <a:ext cx="211320" cy="65404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158760"/>
              <a:ext cx="208080" cy="65404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60" y="627120"/>
              <a:ext cx="209520" cy="777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2280" y="782640"/>
              <a:ext cx="209520" cy="4665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1800" y="936720"/>
              <a:ext cx="21276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760" y="2182680"/>
              <a:ext cx="209520" cy="779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280" y="2338560"/>
              <a:ext cx="209520" cy="4680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1800" y="249408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760" y="374328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2280" y="389880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1800" y="4054320"/>
              <a:ext cx="21276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760" y="5297400"/>
              <a:ext cx="209520" cy="7794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280" y="5452920"/>
              <a:ext cx="209520" cy="4683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" y="5608800"/>
              <a:ext cx="212760" cy="1569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760" y="782640"/>
              <a:ext cx="314280" cy="46980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198" y="148"/>
                  </a:moveTo>
                  <a:lnTo>
                    <a:pt x="0" y="0"/>
                  </a:lnTo>
                  <a:lnTo>
                    <a:pt x="0" y="296"/>
                  </a:lnTo>
                  <a:lnTo>
                    <a:pt x="198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16960" y="782640"/>
              <a:ext cx="317520" cy="4698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0" y="148"/>
                  </a:moveTo>
                  <a:lnTo>
                    <a:pt x="200" y="0"/>
                  </a:lnTo>
                  <a:lnTo>
                    <a:pt x="200" y="296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16960" y="2335320"/>
              <a:ext cx="317520" cy="471240"/>
            </a:xfrm>
            <a:custGeom>
              <a:avLst/>
              <a:gdLst/>
              <a:ahLst/>
              <a:rect l="l" t="t" r="r" b="b"/>
              <a:pathLst>
                <a:path w="200" h="297">
                  <a:moveTo>
                    <a:pt x="0" y="148"/>
                  </a:moveTo>
                  <a:lnTo>
                    <a:pt x="200" y="0"/>
                  </a:lnTo>
                  <a:lnTo>
                    <a:pt x="200" y="297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16960" y="3898800"/>
              <a:ext cx="317520" cy="47016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0" y="148"/>
                  </a:moveTo>
                  <a:lnTo>
                    <a:pt x="200" y="0"/>
                  </a:lnTo>
                  <a:lnTo>
                    <a:pt x="200" y="296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16960" y="5465880"/>
              <a:ext cx="317520" cy="4698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0" y="147"/>
                  </a:moveTo>
                  <a:lnTo>
                    <a:pt x="200" y="0"/>
                  </a:lnTo>
                  <a:lnTo>
                    <a:pt x="200" y="29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760" y="2335320"/>
              <a:ext cx="314280" cy="471240"/>
            </a:xfrm>
            <a:custGeom>
              <a:avLst/>
              <a:gdLst/>
              <a:ahLst/>
              <a:rect l="l" t="t" r="r" b="b"/>
              <a:pathLst>
                <a:path w="198" h="297">
                  <a:moveTo>
                    <a:pt x="198" y="148"/>
                  </a:moveTo>
                  <a:lnTo>
                    <a:pt x="0" y="0"/>
                  </a:lnTo>
                  <a:lnTo>
                    <a:pt x="0" y="297"/>
                  </a:lnTo>
                  <a:lnTo>
                    <a:pt x="198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760" y="3898800"/>
              <a:ext cx="314280" cy="47016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198" y="148"/>
                  </a:moveTo>
                  <a:lnTo>
                    <a:pt x="0" y="0"/>
                  </a:lnTo>
                  <a:lnTo>
                    <a:pt x="0" y="296"/>
                  </a:lnTo>
                  <a:lnTo>
                    <a:pt x="198" y="148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2760" y="5452920"/>
              <a:ext cx="314280" cy="471600"/>
            </a:xfrm>
            <a:custGeom>
              <a:avLst/>
              <a:gdLst/>
              <a:ahLst/>
              <a:rect l="l" t="t" r="r" b="b"/>
              <a:pathLst>
                <a:path w="198" h="297">
                  <a:moveTo>
                    <a:pt x="198" y="147"/>
                  </a:moveTo>
                  <a:lnTo>
                    <a:pt x="0" y="0"/>
                  </a:lnTo>
                  <a:lnTo>
                    <a:pt x="0" y="297"/>
                  </a:lnTo>
                  <a:lnTo>
                    <a:pt x="198" y="147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69480" y="50007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69480" y="484668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5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69480" y="51595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69480" y="53132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69480" y="54738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5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069480" y="56293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69480" y="578340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69480" y="59468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69480" y="6095880"/>
              <a:ext cx="74520" cy="10980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5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69480" y="6253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47" y="35"/>
                  </a:lnTo>
                  <a:lnTo>
                    <a:pt x="0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69480" y="64087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0"/>
                  </a:moveTo>
                  <a:lnTo>
                    <a:pt x="47" y="3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69480" y="656280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0"/>
                  </a:moveTo>
                  <a:lnTo>
                    <a:pt x="47" y="35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69480" y="174636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69480" y="19000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69480" y="158904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69480" y="143352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69480" y="12715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69480" y="111924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69480" y="96372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69480" y="79848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069480" y="6508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69480" y="4921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69480" y="33984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69480" y="1843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69480" y="267336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69480" y="28288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69480" y="25160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69480" y="23605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69480" y="22003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69480" y="20462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69480" y="361008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69480" y="376380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69480" y="345276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69480" y="330048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0" y="69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69480" y="313848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69480" y="298296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69480" y="45435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9480" y="469728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69480" y="43862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069480" y="423072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71"/>
                  </a:moveTo>
                  <a:lnTo>
                    <a:pt x="47" y="36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69480" y="407052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5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69480" y="391644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7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0007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84668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4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15772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313240"/>
              <a:ext cx="74520" cy="10980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54738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62752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7834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946840"/>
              <a:ext cx="7452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6095880"/>
              <a:ext cx="74520" cy="10980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4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625320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5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6408720"/>
              <a:ext cx="74520" cy="1094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7" y="0"/>
                  </a:moveTo>
                  <a:lnTo>
                    <a:pt x="0" y="34"/>
                  </a:lnTo>
                  <a:lnTo>
                    <a:pt x="47" y="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56280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47" y="0"/>
                  </a:moveTo>
                  <a:lnTo>
                    <a:pt x="0" y="35"/>
                  </a:lnTo>
                  <a:lnTo>
                    <a:pt x="47" y="7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174636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190008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158904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143352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0" y="12715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" y="111924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0" y="96372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0" y="79848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0" y="65088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49212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" y="33660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184320"/>
              <a:ext cx="73080" cy="109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46" y="69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6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" y="267336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0" y="282744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0" y="251604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0" y="23605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22003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0" y="204624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361008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376380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345276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329724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313848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298296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454356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69728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4386240"/>
              <a:ext cx="73080" cy="11124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4230720"/>
              <a:ext cx="73080" cy="11268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46" y="71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407052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5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" y="3916440"/>
              <a:ext cx="73080" cy="110880"/>
            </a:xfrm>
            <a:custGeom>
              <a:avLst/>
              <a:gdLst/>
              <a:ahLst/>
              <a:rect l="l" t="t" r="r" b="b"/>
              <a:pathLst>
                <a:path w="46" h="70">
                  <a:moveTo>
                    <a:pt x="46" y="70"/>
                  </a:moveTo>
                  <a:lnTo>
                    <a:pt x="0" y="34"/>
                  </a:lnTo>
                  <a:lnTo>
                    <a:pt x="46" y="0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64280" y="6541920"/>
              <a:ext cx="10400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2360" y="6384960"/>
              <a:ext cx="62388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80440" y="622296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87800" y="6541920"/>
              <a:ext cx="10400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95880" y="6384960"/>
              <a:ext cx="62388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02160" y="6222960"/>
              <a:ext cx="2113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11320" y="6541920"/>
              <a:ext cx="10400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19400" y="6384960"/>
              <a:ext cx="62388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25680" y="622296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960" y="6541920"/>
              <a:ext cx="10382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39680" y="6384960"/>
              <a:ext cx="622440" cy="1555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47760" y="622296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6699240"/>
              <a:ext cx="914112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3800" y="6467400"/>
              <a:ext cx="619200" cy="231840"/>
            </a:xfrm>
            <a:custGeom>
              <a:avLst/>
              <a:gdLst/>
              <a:ahLst/>
              <a:rect l="l" t="t" r="r" b="b"/>
              <a:pathLst>
                <a:path w="390" h="146">
                  <a:moveTo>
                    <a:pt x="196" y="0"/>
                  </a:moveTo>
                  <a:lnTo>
                    <a:pt x="0" y="146"/>
                  </a:lnTo>
                  <a:lnTo>
                    <a:pt x="390" y="146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97320" y="646740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6" y="0"/>
                  </a:moveTo>
                  <a:lnTo>
                    <a:pt x="0" y="146"/>
                  </a:lnTo>
                  <a:lnTo>
                    <a:pt x="389" y="146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200" y="6467400"/>
              <a:ext cx="620640" cy="231840"/>
            </a:xfrm>
            <a:custGeom>
              <a:avLst/>
              <a:gdLst/>
              <a:ahLst/>
              <a:rect l="l" t="t" r="r" b="b"/>
              <a:pathLst>
                <a:path w="391" h="146">
                  <a:moveTo>
                    <a:pt x="195" y="0"/>
                  </a:moveTo>
                  <a:lnTo>
                    <a:pt x="0" y="146"/>
                  </a:lnTo>
                  <a:lnTo>
                    <a:pt x="391" y="146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39680" y="646740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4" y="0"/>
                  </a:moveTo>
                  <a:lnTo>
                    <a:pt x="0" y="146"/>
                  </a:lnTo>
                  <a:lnTo>
                    <a:pt x="389" y="146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00" y="6753240"/>
              <a:ext cx="10620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67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4320" y="675000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0" y="49"/>
                  </a:moveTo>
                  <a:lnTo>
                    <a:pt x="66" y="49"/>
                  </a:lnTo>
                  <a:lnTo>
                    <a:pt x="66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25600" y="6804000"/>
              <a:ext cx="147600" cy="54000"/>
            </a:xfrm>
            <a:custGeom>
              <a:avLst/>
              <a:gdLst/>
              <a:ahLst/>
              <a:rect l="l" t="t" r="r" b="b"/>
              <a:pathLst>
                <a:path w="93" h="34">
                  <a:moveTo>
                    <a:pt x="93" y="0"/>
                  </a:moveTo>
                  <a:lnTo>
                    <a:pt x="46" y="34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3224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1464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9800" y="6804000"/>
              <a:ext cx="14616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6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3800" y="6804000"/>
              <a:ext cx="147600" cy="54000"/>
            </a:xfrm>
            <a:custGeom>
              <a:avLst/>
              <a:gdLst/>
              <a:ahLst/>
              <a:rect l="l" t="t" r="r" b="b"/>
              <a:pathLst>
                <a:path w="93" h="34">
                  <a:moveTo>
                    <a:pt x="93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8752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82680" y="6804000"/>
              <a:ext cx="14616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3800" y="6804000"/>
              <a:ext cx="147600" cy="54000"/>
            </a:xfrm>
            <a:custGeom>
              <a:avLst/>
              <a:gdLst/>
              <a:ahLst/>
              <a:rect l="l" t="t" r="r" b="b"/>
              <a:pathLst>
                <a:path w="93" h="34">
                  <a:moveTo>
                    <a:pt x="93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5080" y="6804000"/>
              <a:ext cx="14940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560" y="6804000"/>
              <a:ext cx="14616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840" y="6804000"/>
              <a:ext cx="149040" cy="54000"/>
            </a:xfrm>
            <a:custGeom>
              <a:avLst/>
              <a:gdLst/>
              <a:ahLst/>
              <a:rect l="l" t="t" r="r" b="b"/>
              <a:pathLst>
                <a:path w="94" h="34">
                  <a:moveTo>
                    <a:pt x="94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3000" y="6804000"/>
              <a:ext cx="145800" cy="540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92" y="0"/>
                  </a:moveTo>
                  <a:lnTo>
                    <a:pt x="47" y="34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576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6128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564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336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97560" y="6802560"/>
              <a:ext cx="14796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0240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1048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2792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28080" y="6802560"/>
              <a:ext cx="14580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5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37600" y="6802560"/>
              <a:ext cx="14616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7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4244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50160" y="6802560"/>
              <a:ext cx="14616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7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3096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2288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4048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6802560"/>
              <a:ext cx="14616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5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62760" y="6802560"/>
              <a:ext cx="145800" cy="5544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0" y="0"/>
                  </a:moveTo>
                  <a:lnTo>
                    <a:pt x="45" y="35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580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8140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7368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9092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09960" y="6802560"/>
              <a:ext cx="14940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804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3544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2880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4496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124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7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5440" y="680256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0"/>
                  </a:moveTo>
                  <a:lnTo>
                    <a:pt x="46" y="35"/>
                  </a:lnTo>
                  <a:lnTo>
                    <a:pt x="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72080" y="680256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0" y="0"/>
                  </a:moveTo>
                  <a:lnTo>
                    <a:pt x="47" y="35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4280" y="160200"/>
              <a:ext cx="10400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72360" y="317520"/>
              <a:ext cx="62388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80440" y="47484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87800" y="160200"/>
              <a:ext cx="10400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5880" y="317520"/>
              <a:ext cx="62388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2160" y="474840"/>
              <a:ext cx="2113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11320" y="160200"/>
              <a:ext cx="10400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19400" y="317520"/>
              <a:ext cx="62388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5680" y="47484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1960" y="160200"/>
              <a:ext cx="1038240" cy="15588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39680" y="317520"/>
              <a:ext cx="622440" cy="15732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47760" y="474840"/>
              <a:ext cx="209520" cy="16020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0" y="0"/>
              <a:ext cx="9141120" cy="158760"/>
            </a:xfrm>
            <a:prstGeom prst="rect">
              <a:avLst/>
            </a:prstGeom>
            <a:solidFill>
              <a:srgbClr val="00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73800" y="158760"/>
              <a:ext cx="619200" cy="231840"/>
            </a:xfrm>
            <a:custGeom>
              <a:avLst/>
              <a:gdLst/>
              <a:ahLst/>
              <a:rect l="l" t="t" r="r" b="b"/>
              <a:pathLst>
                <a:path w="390" h="146">
                  <a:moveTo>
                    <a:pt x="196" y="146"/>
                  </a:moveTo>
                  <a:lnTo>
                    <a:pt x="0" y="0"/>
                  </a:lnTo>
                  <a:lnTo>
                    <a:pt x="390" y="0"/>
                  </a:lnTo>
                  <a:lnTo>
                    <a:pt x="196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97320" y="15876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6" y="146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196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21200" y="158760"/>
              <a:ext cx="620640" cy="231840"/>
            </a:xfrm>
            <a:custGeom>
              <a:avLst/>
              <a:gdLst/>
              <a:ahLst/>
              <a:rect l="l" t="t" r="r" b="b"/>
              <a:pathLst>
                <a:path w="391" h="146">
                  <a:moveTo>
                    <a:pt x="195" y="146"/>
                  </a:moveTo>
                  <a:lnTo>
                    <a:pt x="0" y="0"/>
                  </a:lnTo>
                  <a:lnTo>
                    <a:pt x="391" y="0"/>
                  </a:lnTo>
                  <a:lnTo>
                    <a:pt x="195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9680" y="158760"/>
              <a:ext cx="617760" cy="231840"/>
            </a:xfrm>
            <a:custGeom>
              <a:avLst/>
              <a:gdLst/>
              <a:ahLst/>
              <a:rect l="l" t="t" r="r" b="b"/>
              <a:pathLst>
                <a:path w="389" h="146">
                  <a:moveTo>
                    <a:pt x="194" y="146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194" y="146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00" y="28440"/>
              <a:ext cx="10620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67" y="0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04320" y="302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0" y="0"/>
                  </a:moveTo>
                  <a:lnTo>
                    <a:pt x="66" y="0"/>
                  </a:lnTo>
                  <a:lnTo>
                    <a:pt x="6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25600" y="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93" y="35"/>
                  </a:moveTo>
                  <a:lnTo>
                    <a:pt x="46" y="0"/>
                  </a:lnTo>
                  <a:lnTo>
                    <a:pt x="0" y="35"/>
                  </a:lnTo>
                  <a:lnTo>
                    <a:pt x="93" y="35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32240" y="0"/>
              <a:ext cx="149040" cy="5544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94" y="35"/>
                  </a:moveTo>
                  <a:lnTo>
                    <a:pt x="47" y="0"/>
                  </a:lnTo>
                  <a:lnTo>
                    <a:pt x="0" y="35"/>
                  </a:lnTo>
                  <a:lnTo>
                    <a:pt x="94" y="35"/>
                  </a:lnTo>
                  <a:close/>
                </a:path>
              </a:pathLst>
            </a:custGeom>
            <a:solidFill>
              <a:srgbClr val="bf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1146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980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6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938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93" y="35"/>
                </a:moveTo>
                <a:lnTo>
                  <a:pt x="47" y="0"/>
                </a:lnTo>
                <a:lnTo>
                  <a:pt x="0" y="35"/>
                </a:lnTo>
                <a:lnTo>
                  <a:pt x="93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8752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8268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7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38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93" y="35"/>
                </a:moveTo>
                <a:lnTo>
                  <a:pt x="47" y="0"/>
                </a:lnTo>
                <a:lnTo>
                  <a:pt x="0" y="35"/>
                </a:lnTo>
                <a:lnTo>
                  <a:pt x="93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508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56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7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8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35"/>
                </a:moveTo>
                <a:lnTo>
                  <a:pt x="47" y="0"/>
                </a:lnTo>
                <a:lnTo>
                  <a:pt x="0" y="35"/>
                </a:lnTo>
                <a:lnTo>
                  <a:pt x="94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000" y="0"/>
            <a:ext cx="14580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92" y="35"/>
                </a:moveTo>
                <a:lnTo>
                  <a:pt x="47" y="0"/>
                </a:lnTo>
                <a:lnTo>
                  <a:pt x="0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6576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6128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6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336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97560" y="0"/>
            <a:ext cx="14796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0240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048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792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28080" y="0"/>
            <a:ext cx="14580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5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3760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7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424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5016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7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3096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2288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4048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8200" y="0"/>
            <a:ext cx="14616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5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62760" y="0"/>
            <a:ext cx="145800" cy="55440"/>
          </a:xfrm>
          <a:custGeom>
            <a:avLst/>
            <a:gdLst/>
            <a:ahLst/>
            <a:rect l="l" t="t" r="r" b="b"/>
            <a:pathLst>
              <a:path w="92" h="35">
                <a:moveTo>
                  <a:pt x="0" y="35"/>
                </a:moveTo>
                <a:lnTo>
                  <a:pt x="45" y="0"/>
                </a:lnTo>
                <a:lnTo>
                  <a:pt x="92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6580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814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7368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9092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9576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9960" y="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1804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3544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880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4496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124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7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65440" y="0"/>
            <a:ext cx="147600" cy="55440"/>
          </a:xfrm>
          <a:custGeom>
            <a:avLst/>
            <a:gdLst/>
            <a:ahLst/>
            <a:rect l="l" t="t" r="r" b="b"/>
            <a:pathLst>
              <a:path w="93" h="35">
                <a:moveTo>
                  <a:pt x="0" y="35"/>
                </a:moveTo>
                <a:lnTo>
                  <a:pt x="46" y="0"/>
                </a:lnTo>
                <a:lnTo>
                  <a:pt x="9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72080" y="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0" y="35"/>
                </a:moveTo>
                <a:lnTo>
                  <a:pt x="47" y="0"/>
                </a:lnTo>
                <a:lnTo>
                  <a:pt x="94" y="35"/>
                </a:lnTo>
                <a:lnTo>
                  <a:pt x="0" y="35"/>
                </a:lnTo>
                <a:close/>
              </a:path>
            </a:pathLst>
          </a:custGeom>
          <a:solidFill>
            <a:srgbClr val="bf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na01440_" descr=""/>
          <p:cNvPicPr/>
          <p:nvPr/>
        </p:nvPicPr>
        <p:blipFill>
          <a:blip r:embed="rId4"/>
          <a:stretch/>
        </p:blipFill>
        <p:spPr>
          <a:xfrm>
            <a:off x="304920" y="2971800"/>
            <a:ext cx="863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o01874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198960" y="83808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t 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53840" y="2098800"/>
            <a:ext cx="628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pend on plants for food.  We eat the roo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s, and leaves of plants.  The cereals we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ade from plants.  We eat animals that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.  However, people need plants f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food.  We also breathe the oxygen that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30:22Z</dcterms:created>
  <dc:creator>Graves</dc:creator>
  <dc:description/>
  <dc:language>en-US</dc:language>
  <cp:lastModifiedBy>GCBOE</cp:lastModifiedBy>
  <dcterms:modified xsi:type="dcterms:W3CDTF">2003-02-24T21:16:14Z</dcterms:modified>
  <cp:revision>4</cp:revision>
  <dc:subject/>
  <dc:title>LOOKING AT PLANTS AND ANIMALS</dc:title>
</cp:coreProperties>
</file>